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7EB-2662-434C-8219-59C3D464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1280-9F2A-406D-9CF5-7D7E3AF0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DBC-EE46-49A8-8E05-F619D88D0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AB4-0B71-4B01-9FA1-22E74A55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C55D-173E-4704-8DD8-47EF467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2EE1-2669-448D-9FCF-ED8F3CDD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079-FC14-4D97-94AA-E044A2C4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E20-E4BF-4C10-861C-8EE17A77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7DC2-47F5-47F9-A189-4E396845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10E-1D68-4FB4-97DC-064067FE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830-70FD-4C2E-AB92-F5CF78C6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74D-777B-4239-9672-67B190CF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9A78-A091-439F-9DE9-F08C8F57E644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lar sıcaktan buğulanmı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de ayakkabı boyası kalmamı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imiz kitabı okuduk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niyet kemeri takmak zorunlu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ç kimse, affettiği kadar yükselemez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kes kitap parası verd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ağı kayınca yere düşmü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f1ad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de bıraktım kalbimi?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akıllar bize yüktür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mübarek el uzanır usulca. 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atıdan tıkırtılar geliyor.</a:t>
            </a:r>
            <a:br>
              <a:rPr sz="4400"/>
            </a:b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ülkeyi tanımalısını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ç kurt, aslana saldırı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 gözlüğümün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ı kırıl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ömlek sana yakışmı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y tarafa bakan pencereyi babam açt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lar beni hatırlasın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şamlardan, gecelerden, senden uzağ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ocuk, annesine özlemle sarıl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ımeli kokuyorsun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7:40:05Z</dcterms:modified>
  <cp:revision>109</cp:revision>
  <dc:subject/>
  <dc:title>KONU 1</dc:title>
</cp:coreProperties>
</file>